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6D78-A5F4-446B-B24D-CBD716557DB4}" type="slidenum">
              <a:rPr b="0" lang="fa-I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5C87-5029-47EE-81E5-7BDE9C236747}" type="slidenum">
              <a:rPr b="0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D0E8-B30B-4E60-9141-124372DAB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2519-D702-4227-AE81-F0B99BEE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BA5E-5D92-47CC-A455-9D51488A7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4483-16D2-47FF-B6C2-345E9BD26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E55A-23F2-400B-987A-D33E7D21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954D-AC18-4C64-84A3-81122C61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5B79-08BD-43C0-B92E-52018576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037F-DEF0-43E4-94F7-DD6281E3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399B-BB83-445C-8EB1-614646E3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85ED-1D30-433F-AD34-CC3AC9B3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C146-8E07-442B-81BB-85381818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6EA3-AB19-4295-A735-3CB8AB2F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A697-A64F-464D-ABF1-E4F0E6E3371E}" type="slidenum">
              <a:rPr b="0" lang="fa-I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over"/>
          <p:cNvPicPr/>
          <p:nvPr/>
        </p:nvPicPr>
        <p:blipFill>
          <a:blip r:embed="rId1"/>
          <a:stretch/>
        </p:blipFill>
        <p:spPr>
          <a:xfrm>
            <a:off x="609480" y="2209680"/>
            <a:ext cx="7620120" cy="44197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676520" y="22860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ahoma"/>
              </a:rPr>
              <a:t>ایمنی بر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09480" y="-3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مجوز کار 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5-21-1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در صورت نياز به عمليات خاک برداری د رمناطقی که قبلا سيم برق درون زمين دفن گرديده  ، اخذ مجوز کار (حفاری و خاک برداری) از واحد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SE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الزامی می باشد 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5-21-2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در صورت نياز به انجام کار بر روی سيستمهای برقدار (امکان قطع برق نباشد ) اخذ مجوز کار از واحد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SE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الزامی می باشد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5-21-3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جهت انجام عمليات تنش زدائی (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OST WELDING HEAT TREATMENT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) با ولتاژ بالا ، اخذ مجوز کار از واحد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SE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الزامی می باشد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ffff"/>
                </a:solidFill>
                <a:latin typeface="Tahoma"/>
              </a:rPr>
              <a:t>نكات ايمني</a:t>
            </a:r>
            <a:r>
              <a:rPr b="1" lang="ar-SA" sz="44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بالا رفتن از پايه هاي برق براي افراد غيرمسئول ممنوع و خطرناك است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خطر برق گرفتگي و سقوط جان افرادي را كه از پايه هاي برق بالا ميروند تهديد ميكند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حمل وسايل فلزي با ارتفاع زياد ( لوله فلزي  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 نردبان فلزي و ...  ) در زيرو نزديك شبكه هاي برق بسيار خطرناك است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   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درصورت پاره شدن سيم هاي برق از دست زدن به آنها خود داري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ستفاده از وسايل برقي فاقد دو شاخه برق بسيار خطرناك و حادثه ساز است .</a:t>
            </a:r>
            <a:r>
              <a:rPr b="0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   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هيچ گاه به وسائل و ابزار برقي معيوب اطمينان نكنيد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   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ستفاده از يك پريز برق براي روشن نمودن همزمان چند وسيله برقي خطرناك و حادثه ساز است .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هنگام تماس دست با بدنه فلزي وسايل برقي از تماس قسمتهاي ديگر بدن به ديوار يا شير آب و كابينت هاي فلزي خود داري كنيد و حتماً دمپايي پلاستيكي خشك بپوشيد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حوادث برقي نسبت به بقيه حوادث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برابر خطرناكتر است . بيائيد از حوادث عبرت بگيريم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آب  هادي جريان برق است هنگام آب پاشي از بكارگيري شلنگ آب در نزديكي شبكه‌هاي و تجهيزات برقدار جداً خودداري كنيد .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ز تخريب عايق بندي مصرف كننده‌هاي الكتريكي جداً پرهيز شود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در صورت وجود هر گونه نقص در تجهيزات الكتريكي مراتب را به افراد متخصص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طلاع دهيد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ستفاده از ابزار فلزي مانند نردبان فلزي، چهار پايه فلزي و ... بعنوان زيرپائي هنگام تعويض لامپ ممكن است موجب تشديد برق گرفتگي در صورت تماس دست با هادي برق شو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هنگام تميز كردن هر گونه وسيله برقي ابتدا آنرا از پريز برق جدا نمائيد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هنگام استفاده از تجهيزات الكتريكي از سالم بودن سيم رابط و دوشاخه و برقدار نبودن بدنه‌آن مطمئن شويد</a:t>
            </a:r>
            <a:br>
              <a:rPr sz="2800"/>
            </a:b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ز قرار دادن اشياء سنگين و برنده بر روي سيمها و كابلهاي سيار خودداري نمائي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ز قرار دادن اشياء سنگين و برنده بر روي سيمها و كابلهاي سيار خودداري نمائيد . سيم هاي سيار را بلافاصله پس از استفاده جمع آوري و در محل منلسب نگهداري نمائيد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برخي لامپها توليد حرارت بالا نموده و لذا داغ مي شوند از قرار دادن اشياء قابل احتراق در نزديكي اين لامپها جدأ خودداري نمائي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 . . هرگز از آب براي خاموش كردن آتش سوزيهاي نزديك تأسيسات و لوازم برقدار بدون قطع برق آنها استفاده ننمائي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8733960" y="3245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" name="Picture 28" descr="254x3ds"/>
          <p:cNvPicPr/>
          <p:nvPr/>
        </p:nvPicPr>
        <p:blipFill>
          <a:blip r:embed="rId1"/>
          <a:stretch/>
        </p:blipFill>
        <p:spPr>
          <a:xfrm>
            <a:off x="457200" y="380880"/>
            <a:ext cx="4648320" cy="5791320"/>
          </a:xfrm>
          <a:prstGeom prst="rect">
            <a:avLst/>
          </a:prstGeom>
          <a:ln w="0">
            <a:noFill/>
          </a:ln>
        </p:spPr>
      </p:pic>
      <p:sp>
        <p:nvSpPr>
          <p:cNvPr id="86" name="Line 34"/>
          <p:cNvSpPr/>
          <p:nvPr/>
        </p:nvSpPr>
        <p:spPr>
          <a:xfrm flipV="1">
            <a:off x="685800" y="3657600"/>
            <a:ext cx="838080" cy="838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35" descr="shock"/>
          <p:cNvPicPr/>
          <p:nvPr/>
        </p:nvPicPr>
        <p:blipFill>
          <a:blip r:embed="rId2"/>
          <a:stretch/>
        </p:blipFill>
        <p:spPr>
          <a:xfrm>
            <a:off x="5410080" y="380880"/>
            <a:ext cx="3645000" cy="5715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10666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New York_2"/>
          <p:cNvPicPr/>
          <p:nvPr/>
        </p:nvPicPr>
        <p:blipFill>
          <a:blip r:embed="rId1"/>
          <a:stretch/>
        </p:blipFill>
        <p:spPr>
          <a:xfrm>
            <a:off x="2590920" y="36576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5ffff"/>
                </a:solidFill>
                <a:latin typeface="Tahoma"/>
              </a:rPr>
              <a:t>مقدمه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000" spc="-1" strike="noStrike">
                <a:solidFill>
                  <a:srgbClr val="ffffff"/>
                </a:solidFill>
                <a:latin typeface="Tahoma"/>
              </a:rPr>
              <a:t>     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در صنعت برق اگر ايمني رعايت نشود ، خطر برق گرفتگي حتمي است. بنابراين قبل از دست زدن به سيم يا ادوات برقي جهت تعمير و يا هر گونه بازرسي بايستي حتماً جريان برق در مدار قطع بوده و مطمئن باشيد كه جريان برق وجود ندارد و آزمايش وجود يا عدم وجود جريان برق توسط فازمتر صورت ميگيرد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برق گرفتگي به دو دسته تقسيم مي شود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۱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- با ولتاژهاي بالا          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  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۲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- با ولتاژهاي پائين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در موارد با ولتاژ بالا، حتماً بدن لازم نيست مستقيم با سيم يا كابل برق تماس داشته باشد بلكه ممكن است در فاصله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متري هم جريان برق از هوا عبور كند و به بدن فرد منتقل شود و باعث برق گرفتگي شود. در اين موارد هر چقدر ولتاژ برق و رطوبت هوا بالا باشد ميزان انتقال و آسيبي كه به بدن وارد مي شود بيشتر است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 موارد ولتاژ پائين بيشتر در خانه اتفاق مي افتد. مثلاً فرد از سيم لخت و يا وسايل برقي مخصوصاً آن دسته از وسايل كه در آنها آب ريخته مي شود آسيب مي بيند.ممكن است از طريق كليد برق برق گرفتگي ايجاد شود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در برق گرفتگي با ولتاژ پائين بدن فرد دچار لرزش مي شود حال آنكه در موارد با ولتاژ بالا بدليل گرفتگي عضلات، منجر به اتصال دائم با آن وسيله خواهد شد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</a:rPr>
              <a:t>برق گرفتگی ومهمترین عوارض آن:</a:t>
            </a:r>
            <a:br>
              <a:rPr sz="2400"/>
            </a:b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با ورود جريان برق به بدن در اثر انقباضهاي الکتريکي سفت ( کزازي شکل ) عضلات تنفسي يا آسيب مراکز تنفسي در مغز ( در بصل النخاع ) ايست تنفسي عارض مي شود و پس از مدتي قلب نيز از حرکت مي ايستد . البته اگر جريان برق از خود قلب نيز عبور کرده باشد با ايجاد انقباضات کرمي شکل و غيرمؤثرو اسپاسموديک در بطن ( فيبريلاسيون بطني ) ايست قلبي اوليه خواهيم داشت . پس از ايست قلبي - تنفسي اگر در عرض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۴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تا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۶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دقيقه عمليات احياء شروع نشود مرگ قطعي و حتمي خواهد بود . اما قبل از شروع عمليات احياء ابتدا بايد تماس مصدوم را با جريان برق از بين ببريم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a-I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8" descr="ground%20fault%20safty"/>
          <p:cNvPicPr/>
          <p:nvPr/>
        </p:nvPicPr>
        <p:blipFill>
          <a:blip r:embed="rId1"/>
          <a:stretch/>
        </p:blipFill>
        <p:spPr>
          <a:xfrm>
            <a:off x="4648320" y="0"/>
            <a:ext cx="4367160" cy="59436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ff"/>
                </a:solidFill>
                <a:latin typeface="Tahoma"/>
              </a:rPr>
              <a:t>دردناکترین عارضه برق گرفتگی سوختگی است، که حتی ممکن است برای فرد گران تمام شو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3" descr="hadeseh1185161980big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ff"/>
                </a:solidFill>
                <a:latin typeface="Tahoma"/>
              </a:rPr>
              <a:t>سوختگی با برق بیشتر در ناحیه دست و پا و صورت اس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4" descr="untitled"/>
          <p:cNvPicPr/>
          <p:nvPr/>
        </p:nvPicPr>
        <p:blipFill>
          <a:blip r:embed="rId1"/>
          <a:stretch/>
        </p:blipFill>
        <p:spPr>
          <a:xfrm>
            <a:off x="4648320" y="2540160"/>
            <a:ext cx="4038480" cy="2997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مهمترین مسئله بعد از برق گرفتگی </a:t>
            </a: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-دور کردن وسایل برقی از مصدوم اس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9" descr="electrical_injuries-int4"/>
          <p:cNvPicPr/>
          <p:nvPr/>
        </p:nvPicPr>
        <p:blipFill>
          <a:blip r:embed="rId1"/>
          <a:stretch/>
        </p:blipFill>
        <p:spPr>
          <a:xfrm>
            <a:off x="380880" y="1600200"/>
            <a:ext cx="8229600" cy="50292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کمکهای اولیه دربرق گرفتگی :(خلاصه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در ابتدا خونسردی خود را حفظ کنی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 به مصدوم آرامش بدهی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اگر سوختگی زیاد نبود باید با آب پاکیزه محل سوختگی را شستشو داد(در مواقعی تا 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دقیقه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اگر سوختگی زیاد بود،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هيچ لباس و يا پوششي را روي محل آسيب ديده نگذاريد ويا حرکت ندهيد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آب سرد و يا درمان طبي را براي سوختگي بکار نبريد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در اولين وقت مصدوم را به بيمارستان برسانيد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0520" y="0"/>
            <a:ext cx="8534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    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مسئوليتها :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مسئوليت نگهداری صحيح و بازرسی قبل از شروع کار در خصوص کابلهای نرم (انعطاف پذير) وسائل برقی قابل حمل و نقل بعهده کارگر و سرکارگر مربوطه است .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مسئوليت بازو بسته نمودن در تابلوهای برق و يا هرگونه تعمير و يا تغييری در سيستم تابلوها و يا راه اندازی و برقراری مجدد جريان برق بعهده افراد ذيصلاح مجرب برقکار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که قبلا از واحد برق کارخانه به واحد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S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کارخانه معرفی شده اند می باشد .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مسئوليت علامتگذاری و تعيين مشخصات کليه انواع قطع کننده های مدارهای برقی د رکاخانه بعهده رئيس واحد برق کارخانه است .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مسئوليت بازرسی دوره ای و هرگونه تست و آزمايشی بر روی تجهيزات برقی از قبيل کابلها ، قطع کننده های مدار ، فيوزها ، کليدها و ... و در نهايت رد يا قبول نمودن انها بعهده کارشناسان واحد برق و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S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کارخانه است .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در صورت نياز به اخذ مجوز کار (بند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21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) سرپرست مربوطه ملزم به آگاه نمودن واحد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SE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کارخانه و نيز اخذ مجوز لازم باشد .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جهت صدور مجوز کار ، واحد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S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کارخانه ملزم به بازرسی شرايط کار و افراد از نظر رعايت سلامت و ايمنی لازم می باشد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·       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شکايات وعلائ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مصدومي که دچار برق گرفتگي مي شود ممکن است يکي يا تمام شکايات و علائم زير را داشته باشد 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سوختگي هاي محل ورود و خروج جريان برق از بدن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قطع راههاي عصبي که به صورت فلج اندام تظاهر مي کند 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درد و حساس شدن ماهيچه ها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افزايش فشار خون يا کاهش فشار خون همراه با علايم و شکايات ناشي از شوک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مشکل شدن تنفس  يا ايست تنفسي ( ممکن است زبان ورم کند و راه هوايي را مسدود نمايد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ضربانات نامنظم قلب يا ايست قلبي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بي قراري و تحريک پذيري ، اگر مصدوم هوشيار است 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بيهوش شدن 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اختلالات بينايي 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شکستگي استخوانها ( از جمله ستون مهره ها ) و دررفتگي مفاصل به علت انقباضات شديد عضلات يا پرت شدن 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تشنج ( در موارد شديد )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08:48:57Z</dcterms:created>
  <dc:creator>ee</dc:creator>
  <dc:description/>
  <dc:language>en-US</dc:language>
  <cp:lastModifiedBy>Smile</cp:lastModifiedBy>
  <dcterms:modified xsi:type="dcterms:W3CDTF">2020-03-08T13:30:41Z</dcterms:modified>
  <cp:revision>21</cp:revision>
  <dc:subject/>
  <dc:title>بسمه تعالي  موضوع: ایمنی برق  استاد: آقای دکتر غلامنیا  دانشجو: محمد مقیسه  رشته: بهداشت حرفه اي</dc:title>
</cp:coreProperties>
</file>